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6B099-0F96-440C-8A10-6DC0288308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30F5F-0A67-4A99-9AD3-A5A062E9D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DF3B9-A274-4ADF-BA69-D9C468AF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D1FC0-2903-48D4-9500-1B122391D7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C81A-2730-4238-BEB6-EA9C55BC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B8C9D-130C-409B-8F71-37C6380C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9E334-0AA3-4C1D-9E71-E02835B7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BFCB7-0F1B-42A7-A0DA-36512615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C01AA-1F2E-44BC-BAE0-E80F6301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C8114-030D-4D96-B2CC-E0C261A9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C343E-35ED-4965-883D-DA2F1A0A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7B25C-79CF-484A-8C4A-C11B6C05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A09D-CC33-45E0-A96C-546E59C974F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七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标本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前应向患者介绍操作的目的、注意事项以及配合要点，使其了解操作过程，并能配合护士顺利完成采集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标本时应做到操作规范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痰标本时，嘱患者勿将唾液、漱口水、鼻涕混入痰标本中，以免检查结果出现误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果患者伤口疼痛，无法咳嗽、咳痰，可用软枕或手掌按压住伤口两侧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咽部或扁桃体采集分泌物作细菌培养或病毒分离，协助临床诊断、治疗和护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和目前的病情、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理解接受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进食时间，避免在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内采集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咽拭子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（详见教材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咽拭子时，应尽量避免在患者进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内采集。采集时动作要轻、快、稳，防止引起患者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若采集咽拭子时，无菌棉签碰触到患者口腔的其他部位，必须要更换棉签重新采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  全血标本、血清标本、血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  血气分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一般情况、诊断和目前治疗情况、理解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需要做的检查项目，决定采血量及是否需特殊准备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否了解检查项目、注意事项以及饮食要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穿刺部位皮肤、血管状况和肢体活动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选择采血部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4568760" y="3141720"/>
            <a:ext cx="41068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整理床单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标本送检，记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三查八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在患者安静状态下采集血液标本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如需做血液生化类检查，应提前告知采血时空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全血标本后，摇晃试管要及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血清标本时，采集用品应保持绝对干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真空采血法采血前，不可松动真空采血管的管塞，避免负压消失或不足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69192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病情、诊断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需做的检查项目和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及其排尿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20720" indent="-27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心理状态、理解能力及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，处理用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尿标本送检，洗手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尿液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907920"/>
            <a:ext cx="84740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会阴部位分泌物较多时，应先清洁或冲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做早孕诊断试验时应留取晨尿，检查结果更精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尿培养标本时，应严格执行无菌技术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隐血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临床诊断、病情和治疗情况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意识状态、排便状况及其自理能力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理解能力、合作程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6400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及虫卵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粪培养标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各种常用标本的采集方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前用屏风或拉帘遮挡患者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粪便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床单位、处理用物、送检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粪便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7584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隐血粪标本时，嘱患者从检查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禁食肉类、动物肝脏、血制品以及含铁丰富的食物、绿叶蔬菜和药物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天后方可采集，以免造成假阳性检验结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集寄生虫标本时，如患者服用驱虫药或者做血吸虫孵化检查，应该留取全部粪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阿米巴原虫检查时，在采集标本前几天，应嘱患者禁服钡剂、油质或含金属的泻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患者腹泻水样便，标本应采集到容器中，便于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做尿常规检查时留取尿标本最合适的时间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前半小时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全天均可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早晨第一次尿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睡前收集尿液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饭后半小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75840" y="1195200"/>
            <a:ext cx="8474040" cy="58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动脉血标本采集的主要目的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做血液气体分析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肝功能   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红细胞沉降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糖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测定血氨含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标本采集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标本采集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痰标本、血液标本、尿液标本、粪便标本的类型及其采集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标本采集时常用防腐剂的名称、作用及用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变换卧位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识别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保护具使用的目的及操作中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规程，进行痰标本、咽拭子标本、血液标本、尿液标本、粪便标本的采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概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25800" indent="-32580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标本采集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照医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集前做好充分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确采集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05600" indent="-271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送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各种常用标本的采集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6760" y="90756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痰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咽拭子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标本的采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规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痰培养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一般情况、临床诊断、病区和治疗情况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目的，采集标本的种类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的神志状况，理解和接受能力，合作程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痰标本的采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56760" y="907560"/>
            <a:ext cx="84740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核对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收集痰标本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协助患者漱口或进行口腔护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、摘手套口罩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整理用物，标本送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33:06Z</dcterms:modified>
  <cp:revision>188</cp:revision>
  <dc:subject/>
  <dc:title>内科护理学</dc:title>
</cp:coreProperties>
</file>